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4.png" ContentType="image/png"/>
  <Override PartName="/ppt/media/image10.png" ContentType="image/png"/>
  <Override PartName="/ppt/media/image2.wmf" ContentType="image/x-wmf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89CF-F70E-49F5-BA4C-5C98DA8F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9739-F0F0-480A-93CA-6988B8A4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15C-C0A3-4545-AC55-3C42BD60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8DDD-A550-45C3-8B8B-73C8F3B1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3868-3512-4FED-B668-FABE695B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0A67-C645-4DD3-9D4B-0CDE2046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CDF0-D88C-41A0-8F45-08E7C6FC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3A4F-C6F9-43EA-8B75-54D74389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EA81-96F3-4AED-ABB1-5A0523A7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3E72-CAF5-4091-8D46-6CBE0768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3003-B0CD-4F37-A880-55F15298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70DB-0CA3-4656-BA54-4B59110F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F3ED-690C-4FEE-AC7C-86C78917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8F73-7CC8-4B1E-BBDC-C16738BA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FAC1-BA08-41C8-8005-C6927103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E305-F74C-477D-BAF0-AE1CE4E9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0955-F130-421F-BCC8-02E45403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192-A76B-43AA-A683-1086A34B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CD2-0CB0-460D-8FA9-F49F4C91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305-7897-4809-9A3B-1FE11606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3166-8D24-4A63-8E8C-20ECBBD2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3217-FD7A-4988-B130-DD6AEB3B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96FF-B840-4402-A25B-01897D71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DCF-98E1-42B6-BB3D-021898AB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D052-9EBB-4B9A-87CB-BB015E43F6C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prstGeom prst="pie">
            <a:avLst/>
          </a:pr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AE86-DD96-473E-A225-6233AF6291B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5372280" cy="3648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3240" y="352440"/>
            <a:ext cx="7772400" cy="236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Tempus Sans ITC"/>
              </a:rPr>
              <a:t>POPULATION PYRAMIDS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5" name="Picture 6" descr="Pyramid with labled parts (see text links below)"/>
          <p:cNvPicPr/>
          <p:nvPr/>
        </p:nvPicPr>
        <p:blipFill>
          <a:blip r:embed="rId3"/>
          <a:stretch/>
        </p:blipFill>
        <p:spPr>
          <a:xfrm>
            <a:off x="6019920" y="3048120"/>
            <a:ext cx="2857320" cy="1866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RF5303095"/>
          <p:cNvPicPr/>
          <p:nvPr/>
        </p:nvPicPr>
        <p:blipFill>
          <a:blip r:embed="rId2"/>
          <a:srcRect l="10000" t="19577" r="13339" b="7332"/>
          <a:stretch/>
        </p:blipFill>
        <p:spPr>
          <a:xfrm>
            <a:off x="1752480" y="380880"/>
            <a:ext cx="5837400" cy="6096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026" descr="idbpyr(8)"/>
          <p:cNvPicPr/>
          <p:nvPr/>
        </p:nvPicPr>
        <p:blipFill>
          <a:blip r:embed="rId2"/>
          <a:stretch/>
        </p:blipFill>
        <p:spPr>
          <a:xfrm>
            <a:off x="0" y="1235160"/>
            <a:ext cx="9144000" cy="45781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028"/>
          <p:cNvSpPr/>
          <p:nvPr/>
        </p:nvSpPr>
        <p:spPr>
          <a:xfrm>
            <a:off x="685800" y="165240"/>
            <a:ext cx="7772400" cy="761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empus Sans ITC"/>
              </a:rPr>
              <a:t>Beehive-shaped Pyramid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5240"/>
            <a:ext cx="7772400" cy="761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empus Sans ITC"/>
              </a:rPr>
              <a:t>Beehive-shaped Pyramid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19" name="Picture 3" descr="idbpyr(8)"/>
          <p:cNvPicPr/>
          <p:nvPr/>
        </p:nvPicPr>
        <p:blipFill>
          <a:blip r:embed="rId2"/>
          <a:stretch/>
        </p:blipFill>
        <p:spPr>
          <a:xfrm>
            <a:off x="2666880" y="4572000"/>
            <a:ext cx="4191120" cy="20988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189000" y="958680"/>
            <a:ext cx="8762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, 20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pe: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Rocket-shaped / Narrow Bas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  –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Low Birth Rates, Slow pop growt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r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proportion of working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, 15-59 yr old - larg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of economically active po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x Ratio: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Balanced pyrami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idbpyr(5)"/>
          <p:cNvPicPr/>
          <p:nvPr/>
        </p:nvPicPr>
        <p:blipFill>
          <a:blip r:embed="rId2"/>
          <a:stretch/>
        </p:blipFill>
        <p:spPr>
          <a:xfrm>
            <a:off x="533520" y="228600"/>
            <a:ext cx="6900840" cy="2819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idbpyr(6)"/>
          <p:cNvPicPr/>
          <p:nvPr/>
        </p:nvPicPr>
        <p:blipFill>
          <a:blip r:embed="rId3"/>
          <a:stretch/>
        </p:blipFill>
        <p:spPr>
          <a:xfrm>
            <a:off x="533520" y="3276720"/>
            <a:ext cx="6943680" cy="3276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7355160" y="1170000"/>
            <a:ext cx="182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Hong Ko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7585200" y="43848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aiw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idbpyr(12)"/>
          <p:cNvPicPr/>
          <p:nvPr/>
        </p:nvPicPr>
        <p:blipFill>
          <a:blip r:embed="rId2"/>
          <a:stretch/>
        </p:blipFill>
        <p:spPr>
          <a:xfrm>
            <a:off x="380880" y="1239840"/>
            <a:ext cx="8382240" cy="51102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4"/>
          <p:cNvSpPr/>
          <p:nvPr/>
        </p:nvSpPr>
        <p:spPr>
          <a:xfrm>
            <a:off x="685800" y="230040"/>
            <a:ext cx="807732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empus Sans ITC"/>
              </a:rPr>
              <a:t>Rectangular-shaped Pyramid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77240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empus Sans ITC"/>
              </a:rPr>
              <a:t>Rectangular Pyramid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28" name="Picture 3" descr="idbpyr(12)"/>
          <p:cNvPicPr/>
          <p:nvPr/>
        </p:nvPicPr>
        <p:blipFill>
          <a:blip r:embed="rId2"/>
          <a:stretch/>
        </p:blipFill>
        <p:spPr>
          <a:xfrm>
            <a:off x="4038480" y="4854600"/>
            <a:ext cx="2743200" cy="20034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189000" y="907920"/>
            <a:ext cx="8762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etherlands, 20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pe: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Rectangular-shaped - Zero Pop Growt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Narrow Base - Low Birth Ra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- Life-expectancy is high e.g. 80+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- Low death ra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r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s of equal length - Balanc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r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x Ratio: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Balance pyramid - Balance Sex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Rati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idbpyr(8)"/>
          <p:cNvPicPr/>
          <p:nvPr/>
        </p:nvPicPr>
        <p:blipFill>
          <a:blip r:embed="rId2"/>
          <a:stretch/>
        </p:blipFill>
        <p:spPr>
          <a:xfrm>
            <a:off x="1981080" y="380880"/>
            <a:ext cx="4953240" cy="309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idbpyr(12)"/>
          <p:cNvPicPr/>
          <p:nvPr/>
        </p:nvPicPr>
        <p:blipFill>
          <a:blip r:embed="rId3"/>
          <a:stretch/>
        </p:blipFill>
        <p:spPr>
          <a:xfrm>
            <a:off x="1981080" y="3848040"/>
            <a:ext cx="4977000" cy="2781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7075440" y="1530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UK 20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6963840" y="4853160"/>
            <a:ext cx="194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Netherlan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e-(threepatterns)"/>
          <p:cNvPicPr/>
          <p:nvPr/>
        </p:nvPicPr>
        <p:blipFill>
          <a:blip r:embed="rId2"/>
          <a:stretch/>
        </p:blipFill>
        <p:spPr>
          <a:xfrm>
            <a:off x="0" y="628560"/>
            <a:ext cx="9144000" cy="5315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e-09(age-sex_structrs)"/>
          <p:cNvPicPr/>
          <p:nvPr/>
        </p:nvPicPr>
        <p:blipFill>
          <a:blip r:embed="rId2"/>
          <a:stretch/>
        </p:blipFill>
        <p:spPr>
          <a:xfrm>
            <a:off x="0" y="1752480"/>
            <a:ext cx="8839080" cy="2370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228600" y="628560"/>
            <a:ext cx="853452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empus Sans ITC"/>
              </a:rPr>
              <a:t>Population Pyramids in Transi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Arial"/>
              </a:rPr>
              <a:t>Each pyramid tells a story about the </a:t>
            </a:r>
            <a:br>
              <a:rPr sz="5400"/>
            </a:br>
            <a:r>
              <a:rPr b="0" lang="en-US" sz="5400" spc="-1" strike="noStrike">
                <a:solidFill>
                  <a:srgbClr val="ff3399"/>
                </a:solidFill>
                <a:latin typeface="Arial"/>
              </a:rPr>
              <a:t>past</a:t>
            </a:r>
            <a:r>
              <a:rPr b="0" lang="en-US" sz="5400" spc="-1" strike="noStrike">
                <a:solidFill>
                  <a:srgbClr val="004c2b"/>
                </a:solidFill>
                <a:latin typeface="Arial"/>
              </a:rPr>
              <a:t>,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present</a:t>
            </a:r>
            <a:r>
              <a:rPr b="0" lang="en-US" sz="5400" spc="-1" strike="noStrike">
                <a:solidFill>
                  <a:srgbClr val="004c2b"/>
                </a:solidFill>
                <a:latin typeface="Arial"/>
              </a:rPr>
              <a:t> &amp; </a:t>
            </a:r>
            <a:r>
              <a:rPr b="0" lang="en-US" sz="5400" spc="-1" strike="noStrike">
                <a:solidFill>
                  <a:srgbClr val="0066ff"/>
                </a:solidFill>
                <a:latin typeface="Arial"/>
              </a:rPr>
              <a:t>future</a:t>
            </a:r>
            <a:r>
              <a:rPr b="0" lang="en-US" sz="5400" spc="-1" strike="noStrike">
                <a:solidFill>
                  <a:srgbClr val="004c2b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4c2b"/>
                </a:solidFill>
                <a:latin typeface="Arial"/>
              </a:rPr>
              <a:t>of a country &amp; its people.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Tempus Sans ITC"/>
              </a:rPr>
              <a:t>Objective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AT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is a population pyramid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OW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to read a population pyramid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Recognis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HAPES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of population pyramids.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MPORTANCE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of population pyramid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564840"/>
            <a:ext cx="9144000" cy="89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empus Sans ITC"/>
              </a:rPr>
              <a:t>Importance of Population Pyramid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olicy Planning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~ future housing esta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~ future school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~ future job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mparison with other countri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~ developed (US) vs developing (India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empus Sans ITC"/>
              </a:rPr>
              <a:t>What is a population pyramid?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t is a diagram that gives information about the proportion of males and females in each age group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 show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proportion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oung people (0 -14 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proportion of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orking people (15 – 59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proportion of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lderly people (60+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5000"/>
            <a:ext cx="8458200" cy="761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empus Sans ITC"/>
              </a:rPr>
              <a:t>What is a population pyramid?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534160" cy="53341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2039040" y="1162080"/>
            <a:ext cx="488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tical Axis - Age Group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838080" y="6278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izontal Axis – Percentage / numb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Oval 8"/>
          <p:cNvSpPr/>
          <p:nvPr/>
        </p:nvSpPr>
        <p:spPr>
          <a:xfrm>
            <a:off x="0" y="1143000"/>
            <a:ext cx="91440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Oval 9"/>
          <p:cNvSpPr/>
          <p:nvPr/>
        </p:nvSpPr>
        <p:spPr>
          <a:xfrm>
            <a:off x="8053560" y="1143000"/>
            <a:ext cx="91440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4876920" y="495288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250240" y="4842000"/>
            <a:ext cx="25930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oung dependen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4876920" y="289548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5241960" y="3622680"/>
            <a:ext cx="2987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Working popul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AutoShape 14"/>
          <p:cNvSpPr/>
          <p:nvPr/>
        </p:nvSpPr>
        <p:spPr>
          <a:xfrm>
            <a:off x="4952880" y="17524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5247720" y="1946160"/>
            <a:ext cx="26967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lderly dependen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1880" y="609480"/>
            <a:ext cx="8646840" cy="85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empus Sans ITC"/>
              </a:rPr>
              <a:t>How to read a population pyramid?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ad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itle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e.g. country or city or racial grou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mment on genera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shape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of the pyrami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t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rtion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f people in various age group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t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x rati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pret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the dat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72640" y="132840"/>
            <a:ext cx="7427880" cy="1009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empus Sans ITC"/>
              </a:rPr>
              <a:t>Types of Population Pyramid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439640"/>
            <a:ext cx="8077320" cy="51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1. Triangular-shape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2. Beehive-shaped Pyrami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3. Rectangular-shaped Pyramid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Shape of pyramids is controlled by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births,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deaths, &amp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migration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146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empus Sans ITC"/>
              </a:rPr>
              <a:t>Triangular-shaped Pyramid</a:t>
            </a:r>
            <a:br>
              <a:rPr sz="4800"/>
            </a:br>
            <a:r>
              <a:rPr b="1" lang="en-US" sz="4800" spc="-1" strike="noStrike">
                <a:solidFill>
                  <a:srgbClr val="000099"/>
                </a:solidFill>
                <a:latin typeface="Tempus Sans ITC"/>
              </a:rPr>
              <a:t>(Broad-based Pyramid)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8634600" cy="4322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4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empus Sans ITC"/>
              </a:rPr>
              <a:t>Broad-based Pyramid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3200400" y="5014800"/>
            <a:ext cx="3681360" cy="1843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380880" y="900000"/>
            <a:ext cx="845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: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dia, 20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pe: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Broad Base  -  high birth ra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Narrow Top  -  small elderly po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-  high death r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rtion: -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arge proportion of yo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igh young dependency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x Ratio: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Balance pyramid - Balance sex rati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idbpyr(2)"/>
          <p:cNvPicPr/>
          <p:nvPr/>
        </p:nvPicPr>
        <p:blipFill>
          <a:blip r:embed="rId2"/>
          <a:stretch/>
        </p:blipFill>
        <p:spPr>
          <a:xfrm>
            <a:off x="533520" y="304920"/>
            <a:ext cx="6686280" cy="301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idbpyr(4)"/>
          <p:cNvPicPr/>
          <p:nvPr/>
        </p:nvPicPr>
        <p:blipFill>
          <a:blip r:embed="rId3"/>
          <a:stretch/>
        </p:blipFill>
        <p:spPr>
          <a:xfrm>
            <a:off x="609480" y="3581280"/>
            <a:ext cx="6705720" cy="2971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7251120" y="1436760"/>
            <a:ext cx="16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dones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273800" y="46432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lays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05:25:04Z</dcterms:created>
  <dc:creator>xms</dc:creator>
  <dc:description/>
  <dc:language>en-US</dc:language>
  <cp:lastModifiedBy>Jason Malbon</cp:lastModifiedBy>
  <cp:lastPrinted>2001-01-18T00:29:23Z</cp:lastPrinted>
  <dcterms:modified xsi:type="dcterms:W3CDTF">2012-04-25T22:06:08Z</dcterms:modified>
  <cp:revision>69</cp:revision>
  <dc:subject/>
  <dc:title>POPULATION PYRAMIDS</dc:title>
</cp:coreProperties>
</file>